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739-2A06-4FE5-883B-1E7E17BA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EA58-C42D-4631-B37B-2210BA37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2D5-78B3-463E-8B65-ADFEB1A2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1EE-2C06-469A-BB30-E804BB51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3F4-E3EB-4294-B487-8970705C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30C-46B5-47DE-8E96-80480461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258-049D-47AE-8F6E-04965C4E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3D5-AA64-485F-BBD6-8B784544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50A-CB0E-46A4-9329-9C583B43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77B-72B4-4189-A159-A1479921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C0B-1DF4-4AB7-A444-517655E8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1F7-E77F-4F19-A351-E48FC6D2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A4F1-C591-4BB2-8050-79FD5048F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-1,36,Slide%2036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’s the week before Fall 2008 registration is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are using OSCAR v2.0 to plan out several alternate sche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have already added two courses to your primary schedule (Schedule 1) and your secondary schedule (Schedule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rting from Schedule 2, navigate to Schedule 1 to search and add a “Calc 1” course to your primary schedule (Schedule 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 lu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6">
            <a:hlinkClick r:id="rId1"/>
          </p:cNvPr>
          <p:cNvSpPr/>
          <p:nvPr/>
        </p:nvSpPr>
        <p:spPr>
          <a:xfrm>
            <a:off x="3048120" y="5791320"/>
            <a:ext cx="358128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4:55:48Z</dcterms:created>
  <dc:creator> </dc:creator>
  <dc:description/>
  <dc:language>en-US</dc:language>
  <cp:lastModifiedBy> </cp:lastModifiedBy>
  <dcterms:modified xsi:type="dcterms:W3CDTF">2009-02-11T18:46:02Z</dcterms:modified>
  <cp:revision>10</cp:revision>
  <dc:subject/>
  <dc:title>Slide 1</dc:title>
</cp:coreProperties>
</file>